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64BC-A829-4ADB-9C36-12C5B16B2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32C3-C30B-43E5-A0AE-98F17EAB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CAA9-D569-46D0-BADF-B3DE1B43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5B7F-F41A-4CCE-AEE6-39CF92B5C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F5BC-FF61-4B14-828E-6175CF1F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B2C9-4444-4165-AF77-CB8C5689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B8D3-86A4-4996-ABD7-FD07E5AD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D2A6-CCE6-4BF8-AC25-AFF8737E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00D8-201C-4D1B-B64F-17A760B6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99B9-93B6-451A-9980-015EB662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EE1C-DB16-4059-AB76-953D97FC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68E0-0554-47D2-B1B2-9926A67E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845C-D8CD-4CAB-8F97-F39FDC249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одель внедрения публичной отчетности в региональную систему образования</a:t>
            </a:r>
            <a:br>
              <a:rPr sz="2400"/>
            </a:br>
            <a:br>
              <a:rPr sz="2400"/>
            </a:br>
            <a:r>
              <a:rPr b="1" i="1" lang="en-US" sz="1200" spc="-1" strike="noStrike">
                <a:solidFill>
                  <a:srgbClr val="333399"/>
                </a:solidFill>
                <a:latin typeface="Arial"/>
              </a:rPr>
              <a:t>Цель проекта: адаптация и внедрение  технологии публичных докладов о состоянии системы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17840" y="1843200"/>
            <a:ext cx="252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Этапы внедрен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3284640"/>
            <a:ext cx="2736720" cy="194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48000" y="3284640"/>
            <a:ext cx="2448000" cy="1944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56360" y="3284640"/>
            <a:ext cx="2448000" cy="194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3357720"/>
            <a:ext cx="26654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Проект Национального фонда подготовки кадров «Реформа системы образования» по направлению «Апробация и внедрение технологии публичных докладов о состоянии системы образования на региональном, муниципальном, окружном и школьном уровнях», 2006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92360" y="3500280"/>
            <a:ext cx="223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риоритетный национальный проект «Образование», 2006-2008 гг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27640" y="3500280"/>
            <a:ext cx="2305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омплексный проект модернизации образования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8-2009 гг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59640" y="27082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эта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40720" y="270828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эта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48720" y="2708280"/>
            <a:ext cx="90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II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эта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6237360"/>
            <a:ext cx="1079640" cy="0"/>
          </a:xfrm>
          <a:prstGeom prst="line">
            <a:avLst/>
          </a:prstGeom>
          <a:ln w="93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618920" y="2276640"/>
            <a:ext cx="2305080" cy="5029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2276640"/>
            <a:ext cx="0" cy="5029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48360" y="2276640"/>
            <a:ext cx="2016000" cy="4316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намика показателей публичной отче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600200"/>
          <a:ext cx="8229600" cy="4002120"/>
        </p:xfrm>
        <a:graphic>
          <a:graphicData uri="http://schemas.openxmlformats.org/drawingml/2006/table">
            <a:tbl>
              <a:tblPr/>
              <a:tblGrid>
                <a:gridCol w="2187720"/>
                <a:gridCol w="1523880"/>
                <a:gridCol w="1601640"/>
                <a:gridCol w="1447920"/>
                <a:gridCol w="1468440"/>
              </a:tblGrid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 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 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 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докладов подготовленных ОУ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обученных слуш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, всего 2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132000" y="2781360"/>
            <a:ext cx="2808360" cy="1368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3640" y="3141720"/>
            <a:ext cx="266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меющиеся ресурс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404640"/>
            <a:ext cx="5689440" cy="1944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84360" y="549360"/>
            <a:ext cx="387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етевая программа повышения квалификации Регионального центра развития образования. Модуль «Методика разработки ежегодных отрытых (публичных) докладов о состоянии и результатах деятельности образовательного учреждения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00720" y="2781360"/>
            <a:ext cx="2590920" cy="1369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76560" y="3213000"/>
            <a:ext cx="3624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учено слушателей: 23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40360" y="342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500720" y="2349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2708280"/>
            <a:ext cx="2590920" cy="1368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2997360"/>
            <a:ext cx="255600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едставлены региональный, муниципальные и школьные  доклады за 2007-2009 г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771280" y="342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280" y="4581360"/>
            <a:ext cx="2808360" cy="1368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4797360"/>
            <a:ext cx="2592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формирована группа экспертов из числа авторов лучших муниципальных и школьных докладо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268000" y="4005360"/>
            <a:ext cx="13669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51280" y="4581360"/>
            <a:ext cx="3384360" cy="1368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32000" y="4869000"/>
            <a:ext cx="316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зработана и опубликована методика подготовки открытых информационно-аналитических докладо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72360" y="4581360"/>
            <a:ext cx="2663640" cy="1297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88000" y="4726080"/>
            <a:ext cx="23767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Разработана нормативная база (утверждены положения о региональном.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муниципальном и школьном докладах)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41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64000" y="4005360"/>
            <a:ext cx="1656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Georgia"/>
              </a:rPr>
              <a:t>Совершенствование качества публичной отче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700"/>
              </a:spcBef>
              <a:buClr>
                <a:srgbClr val="24803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8036"/>
                </a:solidFill>
                <a:latin typeface="Georgia"/>
              </a:rPr>
              <a:t>Проведение дней регионального оператора. Открытая экспертиза публичных отч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700"/>
              </a:spcBef>
              <a:buClr>
                <a:srgbClr val="24803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8036"/>
                </a:solidFill>
                <a:latin typeface="Georgia"/>
              </a:rPr>
              <a:t>Проведение областного конкурса «Лучший муниципальный и школьный публичный доклад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700"/>
              </a:spcBef>
              <a:buClr>
                <a:srgbClr val="24803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8036"/>
                </a:solidFill>
                <a:latin typeface="Georgia"/>
              </a:rPr>
              <a:t>Обучающие семинары и консультации с выездом в муниципалите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700"/>
              </a:spcBef>
              <a:buClr>
                <a:srgbClr val="24803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8036"/>
                </a:solidFill>
                <a:latin typeface="Georgia"/>
              </a:rPr>
              <a:t>Выставки опубликованных докладов на ежегодных фестивалях, съездах учителей, общественных слушаниях и др. мероприят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700"/>
              </a:spcBef>
              <a:buClr>
                <a:srgbClr val="24803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8036"/>
                </a:solidFill>
                <a:latin typeface="Georgia"/>
              </a:rPr>
              <a:t>Размещение на сайте Департамента общего образования Томской обл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900000" y="333360"/>
          <a:ext cx="7777440" cy="6321600"/>
        </p:xfrm>
        <a:graphic>
          <a:graphicData uri="http://schemas.openxmlformats.org/drawingml/2006/table">
            <a:tbl>
              <a:tblPr/>
              <a:tblGrid>
                <a:gridCol w="3889440"/>
                <a:gridCol w="388800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ффекты внедрения публичной отчетности на региональном, муниципальном и школьном уровня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ски внедрения публичной отчет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4712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ышение уровня информированности общественности о положении дел в образован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лучшение имиджа системы образования, образовательных учрежден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ширение круга социальных партнеров системы образов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культуры использования статистического анализ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льное отношение к такому виду отчет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желание руководителей открывать информацию для широкого круга заинтересованных лиц (финансы, результаты и пр.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грузка и дублирование публичной отчетности в деятельности администр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1:17:23Z</dcterms:created>
  <dc:creator>SHURIK</dc:creator>
  <dc:description/>
  <dc:language>en-US</dc:language>
  <cp:lastModifiedBy>HahalkinaTV</cp:lastModifiedBy>
  <dcterms:modified xsi:type="dcterms:W3CDTF">2009-12-03T11:36:16Z</dcterms:modified>
  <cp:revision>79</cp:revision>
  <dc:subject/>
  <dc:title>    Взаимодействие предприятия с окружающей средой.</dc:title>
</cp:coreProperties>
</file>